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95BE-0F2A-408A-97E8-06BD7D8D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6EC-3845-455F-8C5F-4BEE8786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75DA-D329-4A06-9A81-B86E570C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7CE-6CF5-4C4A-81DB-91F4C9A5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133A-EB23-44EE-9DAF-2A7CC9E4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7D4E-07CE-42A9-B594-2C32C931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B375-A8FA-4B91-A135-B95C8DB6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6E9D-16BD-4A79-9A41-B770D5F1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95D7-6D80-4BFD-B4F8-1D2A13CE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0B65-FAA0-41F6-AA74-8EA6FE1A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1285-921E-4A19-A691-3350FB4A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69B9-8C75-43E9-8E6F-96B8268D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AAA8-4049-4B77-B715-48311DFE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AE46-BE42-4853-9680-181EC356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FA94-BCA7-4ED5-87EE-74806DAA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C80A-FAF5-4D04-9251-5A33E2F1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6DAC-366B-423D-B65C-940F7851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846-AB61-46C1-B0EE-223324FB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192-FAEC-47C8-AE9C-751D2E6F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92F6-2C1A-412D-99EC-1968A0E2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4AC-49EC-427B-9D82-3A7B0288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CF2-3D5A-4499-9BCA-F76DD6D9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19C-32AF-4B13-A6B3-35A41A9D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4C0-E3FA-45A2-9238-0AAB13E7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FEDE-BFE7-4024-B515-FA2E40B88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C618-F9BA-4D9B-B6CA-8A50D3FD4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Arial Black"/>
              </a:rPr>
              <a:t>Las Comidas</a:t>
            </a:r>
            <a:endParaRPr b="1" lang="en-US" sz="5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Dylan Gro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Desayuno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520" y="350532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evos revuel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629400" y="1447920"/>
            <a:ext cx="1981080" cy="1912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84200" y="3581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n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352680" y="2057400"/>
            <a:ext cx="2667240" cy="1922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585240" y="42670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go de nara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52280" y="411480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1440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6324480" y="4114800"/>
            <a:ext cx="2438640" cy="1827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9120" y="6172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c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 Black"/>
              </a:rPr>
              <a:t>Almuerzo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2209680" cy="1857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450080" y="312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657600" y="2438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585240" y="4572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go de manz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095880" y="1219320"/>
            <a:ext cx="2743200" cy="1806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937560" y="31240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ándw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914400" y="3962520"/>
            <a:ext cx="1981080" cy="1805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50080" y="5867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ch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324480" y="3733920"/>
            <a:ext cx="2210040" cy="2066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785280" y="59436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es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omedor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6240" y="28954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arrones con qu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1414440" cy="2590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65400" y="4267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477120" y="685800"/>
            <a:ext cx="2419200" cy="1895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394040" y="2819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914400" y="40384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28800" y="64008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4280" y="60199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o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638680" y="4038480"/>
            <a:ext cx="2419560" cy="1895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74720" y="60958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is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7:59Z</dcterms:created>
  <dc:creator>grocerdyl</dc:creator>
  <dc:description/>
  <dc:language>en-US</dc:language>
  <cp:lastModifiedBy>grocerdyl</cp:lastModifiedBy>
  <dcterms:modified xsi:type="dcterms:W3CDTF">2011-04-13T14:14:06Z</dcterms:modified>
  <cp:revision>3</cp:revision>
  <dc:subject/>
  <dc:title>Las Comidas</dc:title>
</cp:coreProperties>
</file>